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41B9-495D-42BC-AD49-05FB7A75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C3F-3D70-4FE9-9ABF-CEA53652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D46-816A-4979-B932-C9754EB5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F85-FE99-4755-B288-83EB332F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700-32E7-47E9-8713-34B21028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A14-F1EB-4DEC-9602-5FB9E46C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64E1-56B9-4F71-A284-1F99713E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A68-FA5F-4B2D-BF3B-BE123A6E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AF9-E175-4ACA-A6B9-241D22F2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B139-D9C1-4E20-B4CB-4EDCBB11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424-6EC4-4E05-AD63-37C0BE0E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4D2-CA92-429E-8A2E-3143EAF3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2FA0-37D9-49F8-9771-CD68AB96B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1412640"/>
            <a:ext cx="6624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Times New Roman"/>
              </a:rPr>
              <a:t>Taisnleņķa trijstūris un tā elementu aprēķināša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8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12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514600" y="1905120"/>
            <a:ext cx="0" cy="2438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85400" y="29455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1520" y="3013560"/>
            <a:ext cx="173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bctg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32560" y="336240"/>
            <a:ext cx="3810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62240" y="2099160"/>
            <a:ext cx="97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9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48320" y="3386160"/>
            <a:ext cx="2228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lv-LV" sz="40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=bcos</a:t>
            </a:r>
            <a:r>
              <a:rPr b="0" lang="lv-LV" sz="4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4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 flipH="1">
            <a:off x="2514240" y="3657600"/>
            <a:ext cx="106668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1480" y="3402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3733920"/>
            <a:ext cx="258840" cy="152280"/>
          </a:xfrm>
          <a:custGeom>
            <a:avLst/>
            <a:gdLst/>
            <a:ahLst/>
            <a:rect l="l" t="t" r="r" b="b"/>
            <a:pathLst>
              <a:path w="163" h="96">
                <a:moveTo>
                  <a:pt x="0" y="0"/>
                </a:moveTo>
                <a:lnTo>
                  <a:pt x="48" y="96"/>
                </a:lnTo>
                <a:lnTo>
                  <a:pt x="163" y="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572000" y="2209680"/>
                <a:ext cx="31240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578840" y="564840"/>
            <a:ext cx="37101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0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191120" y="1371600"/>
                <a:ext cx="419076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ctg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84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 flipH="1" flipV="1">
            <a:off x="2514240" y="3048120"/>
            <a:ext cx="1523880" cy="1295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05040" y="3402720"/>
            <a:ext cx="52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365760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38280" y="25909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51800" y="549000"/>
            <a:ext cx="3643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95680" y="4724280"/>
                <a:ext cx="36576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t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343400" y="1371600"/>
                <a:ext cx="4114800" cy="24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t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0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21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2514240" y="1904760"/>
            <a:ext cx="762120" cy="2438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94160" y="3402720"/>
            <a:ext cx="5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581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971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24520" y="549000"/>
            <a:ext cx="3679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4495680"/>
                <a:ext cx="35049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57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505240" y="3103560"/>
            <a:ext cx="776160" cy="1235160"/>
          </a:xfrm>
          <a:custGeom>
            <a:avLst/>
            <a:gdLst/>
            <a:ahLst/>
            <a:rect l="l" t="t" r="r" b="b"/>
            <a:pathLst>
              <a:path w="489" h="778">
                <a:moveTo>
                  <a:pt x="0" y="778"/>
                </a:moveTo>
                <a:lnTo>
                  <a:pt x="489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8480" y="3097800"/>
            <a:ext cx="5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95480" y="25905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505320" y="358128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1264680"/>
            <a:ext cx="48769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 - apvilktas riņķa līnijas rādi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952880" y="3962520"/>
                <a:ext cx="236232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3789360" y="228240"/>
            <a:ext cx="35794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952880" y="1828800"/>
                <a:ext cx="15591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3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9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505240" y="3510000"/>
            <a:ext cx="1500120" cy="811080"/>
          </a:xfrm>
          <a:custGeom>
            <a:avLst/>
            <a:gdLst/>
            <a:ahLst/>
            <a:rect l="l" t="t" r="r" b="b"/>
            <a:pathLst>
              <a:path w="945" h="511">
                <a:moveTo>
                  <a:pt x="0" y="0"/>
                </a:moveTo>
                <a:lnTo>
                  <a:pt x="945" y="511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69920" y="32504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505320" y="41148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581280" y="38098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343400" y="1600200"/>
                <a:ext cx="426708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4876920" y="4572000"/>
                <a:ext cx="26668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0600" y="320400"/>
            <a:ext cx="3571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343400" y="1295280"/>
                <a:ext cx="3352680" cy="273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tg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2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533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514600" y="1905120"/>
            <a:ext cx="714240" cy="2415960"/>
          </a:xfrm>
          <a:custGeom>
            <a:avLst/>
            <a:gdLst/>
            <a:ahLst/>
            <a:rect l="l" t="t" r="r" b="b"/>
            <a:pathLst>
              <a:path w="450" h="1522">
                <a:moveTo>
                  <a:pt x="0" y="0"/>
                </a:moveTo>
                <a:lnTo>
                  <a:pt x="450" y="1522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56040" y="32504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362680" y="2437560"/>
            <a:ext cx="30384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514600" y="2361240"/>
            <a:ext cx="3045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50600" y="396360"/>
            <a:ext cx="35719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4800600" y="4114800"/>
                <a:ext cx="2428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7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5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569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514600" y="3157560"/>
            <a:ext cx="784080" cy="1185840"/>
          </a:xfrm>
          <a:custGeom>
            <a:avLst/>
            <a:gdLst/>
            <a:ahLst/>
            <a:rect l="l" t="t" r="r" b="b"/>
            <a:pathLst>
              <a:path w="494" h="747">
                <a:moveTo>
                  <a:pt x="494" y="0"/>
                </a:moveTo>
                <a:lnTo>
                  <a:pt x="0" y="747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674440" y="32504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14600" y="41148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62680" y="38862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29560" y="2856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90520" y="1599120"/>
            <a:ext cx="45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DA=180°-45 °-(90 °-</a:t>
            </a: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)=45 °+ </a:t>
            </a: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114800" y="2362320"/>
                <a:ext cx="41911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>
            <a:off x="4052880" y="396360"/>
            <a:ext cx="3773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i="1" lang="lv-LV" sz="2800" spc="-1" strike="noStrike" baseline="-25000">
                <a:solidFill>
                  <a:srgbClr val="ff3300"/>
                </a:solidFill>
                <a:latin typeface="Times New Roman"/>
              </a:rPr>
              <a:t>c 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- 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4724280" y="4572000"/>
                <a:ext cx="3605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6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08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4189680" y="153900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=a+b+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4267080" y="2438280"/>
                <a:ext cx="342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tg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343400" y="3809880"/>
                <a:ext cx="3467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"/>
          <p:cNvSpPr/>
          <p:nvPr/>
        </p:nvSpPr>
        <p:spPr>
          <a:xfrm>
            <a:off x="4115880" y="425880"/>
            <a:ext cx="210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86000" y="1905120"/>
            <a:ext cx="1523880" cy="2438280"/>
          </a:xfrm>
          <a:custGeom>
            <a:avLst/>
            <a:gdLst/>
            <a:ahLst/>
            <a:rect l="l" t="t" r="r" b="b"/>
            <a:pathLst>
              <a:path w="960" h="1536">
                <a:moveTo>
                  <a:pt x="0" y="1536"/>
                </a:moveTo>
                <a:lnTo>
                  <a:pt x="0" y="0"/>
                </a:lnTo>
                <a:lnTo>
                  <a:pt x="960" y="1536"/>
                </a:lnTo>
                <a:lnTo>
                  <a:pt x="0" y="1536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7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43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4267080" y="1600200"/>
                <a:ext cx="20574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572000" y="2590920"/>
                <a:ext cx="313380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tg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4343760" y="533160"/>
            <a:ext cx="206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5105520" y="4273560"/>
                <a:ext cx="3276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581280" y="609480"/>
            <a:ext cx="4876920" cy="1619640"/>
            <a:chOff x="3581280" y="609480"/>
            <a:chExt cx="4876920" cy="1619640"/>
          </a:xfrm>
        </p:grpSpPr>
        <p:sp>
          <p:nvSpPr>
            <p:cNvPr id="43" name=""/>
            <p:cNvSpPr/>
            <p:nvPr/>
          </p:nvSpPr>
          <p:spPr>
            <a:xfrm>
              <a:off x="4724280" y="657000"/>
              <a:ext cx="37339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ABC, </a:t>
              </a:r>
              <a:r>
                <a:rPr b="0" lang="lv-LV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C=90</a:t>
              </a:r>
              <a:r>
                <a:rPr b="0" lang="lv-LV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 un </a:t>
              </a: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81280" y="6094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ot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3733920" y="2666880"/>
            <a:ext cx="1523880" cy="24386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952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895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700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8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733920" y="1202400"/>
            <a:ext cx="487656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OA-l</a:t>
            </a:r>
            <a:r>
              <a:rPr b="1" lang="lv-LV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, BO-lc OK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AK ,OK - r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D, (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KBO=45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O=90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D vienādsānu, BK=OK=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AK=b-r un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OAK=45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4800600" y="2590920"/>
                <a:ext cx="2895480" cy="24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5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8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79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flipV="1">
            <a:off x="2286000" y="342900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2285640" y="3505320"/>
            <a:ext cx="15238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0" y="3276720"/>
            <a:ext cx="1079640" cy="1079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19520" y="38098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0600" y="3885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66880" y="4191120"/>
            <a:ext cx="152640" cy="15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02560" y="3047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46720" y="347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11080" y="4266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4648320" y="5094360"/>
                <a:ext cx="259056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3657960" y="349920"/>
            <a:ext cx="202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9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21320" y="1674720"/>
            <a:ext cx="452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pvilktas riņķa līnijas centrs atrodas uz hipotenūzas viduspunkt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676520" y="1523880"/>
            <a:ext cx="2133000" cy="3202920"/>
            <a:chOff x="1676520" y="1523880"/>
            <a:chExt cx="2133000" cy="3202920"/>
          </a:xfrm>
        </p:grpSpPr>
        <p:sp>
          <p:nvSpPr>
            <p:cNvPr id="721" name=""/>
            <p:cNvSpPr/>
            <p:nvPr/>
          </p:nvSpPr>
          <p:spPr>
            <a:xfrm>
              <a:off x="1981080" y="1905120"/>
              <a:ext cx="152352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29000" y="42670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6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765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81080" y="419112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14600" y="426708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8108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2895480"/>
              <a:ext cx="45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 flipH="1">
            <a:off x="2666880" y="3124080"/>
            <a:ext cx="15264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95280" y="1676520"/>
            <a:ext cx="2895840" cy="2895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981080" y="3123720"/>
            <a:ext cx="762120" cy="12193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16288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81080" y="1905120"/>
            <a:ext cx="762120" cy="1218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362320" y="259056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2971800" y="358128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5511960" y="3313080"/>
                <a:ext cx="109044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4649400" y="533160"/>
            <a:ext cx="210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141880" y="4724280"/>
                <a:ext cx="1982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9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20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1905120"/>
            <a:ext cx="1524240" cy="2438280"/>
          </a:xfrm>
          <a:prstGeom prst="rtTriangl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676520" y="1523880"/>
            <a:ext cx="2133360" cy="3202920"/>
            <a:chOff x="1676520" y="1523880"/>
            <a:chExt cx="2133360" cy="3202920"/>
          </a:xfrm>
        </p:grpSpPr>
        <p:sp>
          <p:nvSpPr>
            <p:cNvPr id="762" name=""/>
            <p:cNvSpPr/>
            <p:nvPr/>
          </p:nvSpPr>
          <p:spPr>
            <a:xfrm>
              <a:off x="342900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76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765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981080" y="419112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51460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7652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666880" y="3124080"/>
              <a:ext cx="152640" cy="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4191120" y="1447920"/>
                <a:ext cx="2871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1" name=""/>
          <p:cNvSpPr/>
          <p:nvPr/>
        </p:nvSpPr>
        <p:spPr>
          <a:xfrm>
            <a:off x="4200840" y="533160"/>
            <a:ext cx="20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800600" y="3429000"/>
                <a:ext cx="19828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3" name=""/>
          <p:cNvSpPr/>
          <p:nvPr/>
        </p:nvSpPr>
        <p:spPr>
          <a:xfrm>
            <a:off x="2340360" y="342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7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20968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937040" y="1963800"/>
                <a:ext cx="17686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34700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57920" y="761040"/>
            <a:ext cx="2066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52880" y="3733920"/>
                <a:ext cx="1752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tg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0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51520" y="1966320"/>
            <a:ext cx="12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3720" y="684720"/>
            <a:ext cx="2066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3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41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222720" y="2826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311800" y="1905120"/>
                <a:ext cx="187488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917160" y="761040"/>
            <a:ext cx="2044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933800" y="3581280"/>
                <a:ext cx="18669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7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021720" y="989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40320" y="297108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90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94560" y="913320"/>
            <a:ext cx="1887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07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5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18160" y="17676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- 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94560" y="608400"/>
            <a:ext cx="1887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5636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800600" y="1600200"/>
                <a:ext cx="236232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6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5800" y="1980360"/>
            <a:ext cx="22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=90</a:t>
            </a:r>
            <a:r>
              <a:rPr b="1" lang="lv-LV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- 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43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645280" y="3808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07880" y="883080"/>
            <a:ext cx="197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508640" y="3346560"/>
                <a:ext cx="1252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5769720" y="913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7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7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2514240" y="4343400"/>
            <a:ext cx="1523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81880" y="38599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14880" y="2175120"/>
            <a:ext cx="98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26680" y="564840"/>
            <a:ext cx="37746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6:20:02Z</dcterms:created>
  <dc:creator>Solo</dc:creator>
  <dc:description/>
  <dc:language>en-US</dc:language>
  <cp:lastModifiedBy>Aira</cp:lastModifiedBy>
  <cp:lastPrinted>2001-02-19T15:49:46Z</cp:lastPrinted>
  <dcterms:modified xsi:type="dcterms:W3CDTF">2010-07-15T13:09:39Z</dcterms:modified>
  <cp:revision>18</cp:revision>
  <dc:subject/>
  <dc:title>1. uzdevums</dc:title>
</cp:coreProperties>
</file>